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png" ContentType="image/png"/>
  <Override PartName="/ppt/media/image4.wmf" ContentType="image/x-wmf"/>
  <Override PartName="/ppt/media/image16.wmf" ContentType="image/x-wmf"/>
  <Override PartName="/ppt/media/image53.wmf" ContentType="image/x-wmf"/>
  <Override PartName="/ppt/media/image52.wmf" ContentType="image/x-wmf"/>
  <Override PartName="/ppt/media/image35.wmf" ContentType="image/x-wmf"/>
  <Override PartName="/ppt/media/image34.wmf" ContentType="image/x-wmf"/>
  <Override PartName="/ppt/media/image26.wmf" ContentType="image/x-wmf"/>
  <Override PartName="/ppt/media/image32.png" ContentType="image/png"/>
  <Override PartName="/ppt/media/image2.png" ContentType="image/png"/>
  <Override PartName="/ppt/media/image31.wmf" ContentType="image/x-wmf"/>
  <Override PartName="/ppt/media/image7.jpeg" ContentType="image/jpeg"/>
  <Override PartName="/ppt/media/image24.wmf" ContentType="image/x-wmf"/>
  <Override PartName="/ppt/media/image27.wmf" ContentType="image/x-wmf"/>
  <Override PartName="/ppt/media/image64.wmf" ContentType="image/x-wmf"/>
  <Override PartName="/ppt/media/image46.jpeg" ContentType="image/jpeg"/>
  <Override PartName="/ppt/media/image15.wmf" ContentType="image/x-wmf"/>
  <Override PartName="/ppt/media/image3.wmf" ContentType="image/x-wmf"/>
  <Override PartName="/ppt/media/image63.wmf" ContentType="image/x-wmf"/>
  <Override PartName="/ppt/media/image10.wmf" ContentType="image/x-wmf"/>
  <Override PartName="/ppt/media/image25.png" ContentType="image/png"/>
  <Override PartName="/ppt/media/image62.png" ContentType="image/png"/>
  <Override PartName="/ppt/media/image23.wmf" ContentType="image/x-wmf"/>
  <Override PartName="/ppt/media/image61.png" ContentType="image/png"/>
  <Override PartName="/ppt/media/image22.wmf" ContentType="image/x-wmf"/>
  <Override PartName="/ppt/media/image60.png" ContentType="image/png"/>
  <Override PartName="/ppt/media/image58.wmf" ContentType="image/x-wmf"/>
  <Override PartName="/ppt/media/image21.wmf" ContentType="image/x-wmf"/>
  <Override PartName="/ppt/media/image19.wmf" ContentType="image/x-wmf"/>
  <Override PartName="/ppt/media/image6.wmf" ContentType="image/x-wmf"/>
  <Override PartName="/ppt/media/image18.wmf" ContentType="image/x-wmf"/>
  <Override PartName="/ppt/media/image14.wmf" ContentType="image/x-wmf"/>
  <Override PartName="/ppt/media/image57.png" ContentType="image/png"/>
  <Override PartName="/ppt/media/image20.wmf" ContentType="image/x-wmf"/>
  <Override PartName="/ppt/media/image54.png" ContentType="image/png"/>
  <Override PartName="/ppt/media/image11.wmf" ContentType="image/x-wmf"/>
  <Override PartName="/ppt/media/image8.wmf" ContentType="image/x-wmf"/>
  <Override PartName="/ppt/media/image38.wmf" ContentType="image/x-wmf"/>
  <Override PartName="/ppt/media/image5.wmf" ContentType="image/x-wmf"/>
  <Override PartName="/ppt/media/image17.wmf" ContentType="image/x-wmf"/>
  <Override PartName="/ppt/media/image9.png" ContentType="image/png"/>
  <Override PartName="/ppt/media/image1.wmf" ContentType="image/x-wmf"/>
  <Override PartName="/ppt/media/image56.png" ContentType="image/png"/>
  <Override PartName="/ppt/media/image13.wmf" ContentType="image/x-wmf"/>
  <Override PartName="/ppt/media/image55.png" ContentType="image/png"/>
  <Override PartName="/ppt/media/image12.wmf" ContentType="image/x-wmf"/>
  <Override PartName="/ppt/media/image49.wmf" ContentType="image/x-wmf"/>
  <Override PartName="/ppt/media/image30.png" ContentType="image/png"/>
  <Override PartName="/ppt/media/image33.png" ContentType="image/png"/>
  <Override PartName="/ppt/media/image36.png" ContentType="image/png"/>
  <Override PartName="/ppt/media/image37.wmf" ContentType="image/x-wmf"/>
  <Override PartName="/ppt/media/image39.wmf" ContentType="image/x-wmf"/>
  <Override PartName="/ppt/media/image41.png" ContentType="image/png"/>
  <Override PartName="/ppt/media/image40.wmf" ContentType="image/x-wmf"/>
  <Override PartName="/ppt/media/image42.png" ContentType="image/png"/>
  <Override PartName="/ppt/media/image43.png" ContentType="image/png"/>
  <Override PartName="/ppt/media/image44.png" ContentType="image/png"/>
  <Override PartName="/ppt/media/image47.png" ContentType="image/png"/>
  <Override PartName="/ppt/media/image28.png" ContentType="image/png"/>
  <Override PartName="/ppt/media/image50.wmf" ContentType="image/x-wmf"/>
  <Override PartName="/ppt/media/image45.jpeg" ContentType="image/jpeg"/>
  <Override PartName="/ppt/media/image48.png" ContentType="image/png"/>
  <Override PartName="/ppt/media/image51.wmf" ContentType="image/x-wmf"/>
  <Override PartName="/ppt/media/image2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he-I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he-I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5A86-BD35-44B4-9092-FAE6344D1372}" type="slidenum">
              <a:rPr b="1" i="1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843120"/>
                <a:tab algn="l" pos="1687680"/>
                <a:tab algn="l" pos="2532240"/>
                <a:tab algn="l" pos="3375000"/>
                <a:tab algn="l" pos="4219560"/>
                <a:tab algn="l" pos="5064120"/>
                <a:tab algn="l" pos="5907240"/>
                <a:tab algn="l" pos="6751800"/>
                <a:tab algn="l" pos="7596360"/>
                <a:tab algn="l" pos="8440560"/>
                <a:tab algn="l" pos="9283680"/>
                <a:tab algn="l" pos="10058400"/>
              </a:tabLst>
            </a:pPr>
            <a:fld id="{984085D5-D58B-4F4F-93B6-B42F1EE94041}" type="slidenum">
              <a:rPr b="1" i="1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843120"/>
                <a:tab algn="l" pos="1687680"/>
                <a:tab algn="l" pos="2532240"/>
                <a:tab algn="l" pos="3375000"/>
                <a:tab algn="l" pos="4219560"/>
                <a:tab algn="l" pos="5064120"/>
                <a:tab algn="l" pos="5907240"/>
                <a:tab algn="l" pos="6751800"/>
                <a:tab algn="l" pos="7596360"/>
                <a:tab algn="l" pos="8440560"/>
                <a:tab algn="l" pos="9283680"/>
                <a:tab algn="l" pos="10058400"/>
              </a:tabLst>
            </a:pPr>
            <a:fld id="{D6EE8CE1-C00F-4F87-85C5-F64C3D6DA39B}" type="slidenum">
              <a:rPr b="1" i="1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843120"/>
                <a:tab algn="l" pos="1687680"/>
                <a:tab algn="l" pos="2532240"/>
                <a:tab algn="l" pos="3375000"/>
                <a:tab algn="l" pos="4219560"/>
                <a:tab algn="l" pos="5064120"/>
                <a:tab algn="l" pos="5907240"/>
                <a:tab algn="l" pos="6751800"/>
                <a:tab algn="l" pos="7596360"/>
                <a:tab algn="l" pos="8440560"/>
                <a:tab algn="l" pos="9283680"/>
                <a:tab algn="l" pos="10058400"/>
              </a:tabLst>
            </a:pPr>
            <a:fld id="{91185150-2A6F-41D0-BB09-503FF28A8BE0}" type="slidenum">
              <a:rPr b="1" i="1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843120"/>
                <a:tab algn="l" pos="1687680"/>
                <a:tab algn="l" pos="2532240"/>
                <a:tab algn="l" pos="3375000"/>
                <a:tab algn="l" pos="4219560"/>
                <a:tab algn="l" pos="5064120"/>
                <a:tab algn="l" pos="5907240"/>
                <a:tab algn="l" pos="6751800"/>
                <a:tab algn="l" pos="7596360"/>
                <a:tab algn="l" pos="8440560"/>
                <a:tab algn="l" pos="9283680"/>
                <a:tab algn="l" pos="10058400"/>
              </a:tabLst>
            </a:pPr>
            <a:fld id="{248B3798-9009-47DB-9EDD-7C5ECDC1E512}" type="slidenum">
              <a:rPr b="1" i="1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85A2-82EF-4E95-AB56-2CDD49450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CA51-7B21-471F-A184-81F68606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9814-7D9C-41AE-83D8-340F0132B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895E-3C43-4B5B-8F89-5C0BEBF17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B5D2-CA82-453B-877C-B3BE84D7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B719-B440-4791-94AE-6F31B895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BA55-090F-4AAC-B21E-3BFEDE2F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91A5-1663-4CB3-8205-6C5C544E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E9DD-3347-4257-AA67-6922DC68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781A-7478-476B-A50A-6D49E9ED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BB58-C266-4187-86CE-FF60C09D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C985-4E71-4A25-8EEB-7B22D6CF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74B5-B47A-4ED6-8B2D-AA1774A6787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404280"/>
            <a:ext cx="89280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ultidimensional solit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9280" y="2565000"/>
            <a:ext cx="885672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ris A. Malo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partment of Physical Electronics, School of Electrical Engineering, Faculty of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el Aviv University, Tel Aviv, Isr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79280" y="-1440"/>
            <a:ext cx="878544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8000" y="333360"/>
            <a:ext cx="90360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file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Palatino Linotype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damental (zero-vorticity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) 2D soli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alias the </a:t>
            </a:r>
            <a:r>
              <a:rPr b="1" i="1" lang="en-US" sz="24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Townes’ soli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.Y. Chiao, E. Garmire &amp; C. H. Townes, Phys. Rev. Lett .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3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, 479 (1964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2771640" y="2781360"/>
            <a:ext cx="5300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785080" cy="583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families of the Townes’ solitons (and their vortex counterparts) are </a:t>
            </a: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degenerat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due to the specific </a:t>
            </a:r>
            <a:r>
              <a:rPr b="1" i="1" lang="en-US" sz="2500" spc="-1" strike="noStrike">
                <a:solidFill>
                  <a:srgbClr val="7030a0"/>
                </a:solidFill>
                <a:latin typeface="Arial"/>
              </a:rPr>
              <a:t>conformal symmetry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f the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2D NLS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quation with the cubic nonlinearity, the norm of each family (with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= 0,1,2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etc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),</a:t>
            </a: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akes a </a:t>
            </a: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single valu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which </a:t>
            </a: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does no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depend on the soliton’s </a:t>
            </a:r>
            <a:r>
              <a:rPr b="1" i="1" lang="en-US" sz="2500" spc="-1" strike="noStrike">
                <a:solidFill>
                  <a:srgbClr val="333399"/>
                </a:solidFill>
                <a:latin typeface="Arial"/>
              </a:rPr>
              <a:t>chemical potential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l-GR" sz="25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 In particular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500"/>
            </a:br>
            <a:br>
              <a:rPr sz="2500"/>
            </a:br>
            <a:br>
              <a:rPr sz="25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4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 rot="10800000">
            <a:off x="468360" y="6154560"/>
            <a:ext cx="8075520" cy="1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1"/>
          <p:cNvGraphicFramePr/>
          <p:nvPr/>
        </p:nvGraphicFramePr>
        <p:xfrm>
          <a:off x="3300480" y="2068560"/>
          <a:ext cx="317484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0480" y="2068560"/>
                    <a:ext cx="317484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"/>
          <p:cNvGraphicFramePr/>
          <p:nvPr/>
        </p:nvGraphicFramePr>
        <p:xfrm>
          <a:off x="250920" y="3871800"/>
          <a:ext cx="746100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3871800"/>
                    <a:ext cx="746100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78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Content Placeholder 4" descr=""/>
          <p:cNvPicPr/>
          <p:nvPr/>
        </p:nvPicPr>
        <p:blipFill>
          <a:blip r:embed="rId1"/>
          <a:stretch/>
        </p:blipFill>
        <p:spPr>
          <a:xfrm>
            <a:off x="108000" y="2735280"/>
            <a:ext cx="8769240" cy="253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Object 1"/>
          <p:cNvGraphicFramePr/>
          <p:nvPr/>
        </p:nvGraphicFramePr>
        <p:xfrm>
          <a:off x="1058760" y="901800"/>
          <a:ext cx="6648480" cy="156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58760" y="901800"/>
                    <a:ext cx="6648480" cy="15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89280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erically simulated development of the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llapse</a:t>
            </a:r>
            <a:r>
              <a:rPr b="1" i="1" lang="en-US" sz="2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fundamental Townes soliton 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2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e evolution of the radial cross section of the collaps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ton</a:t>
            </a:r>
            <a:r>
              <a:rPr b="1" i="1" lang="en-US" sz="2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wards the formation of a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ingula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Content Placeholder 3" descr=""/>
          <p:cNvPicPr/>
          <p:nvPr/>
        </p:nvPicPr>
        <p:blipFill>
          <a:blip r:embed="rId1"/>
          <a:stretch/>
        </p:blipFill>
        <p:spPr>
          <a:xfrm>
            <a:off x="1332000" y="2170080"/>
            <a:ext cx="5968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612720" y="4046400"/>
            <a:ext cx="7488360" cy="28116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560" y="-360"/>
            <a:ext cx="910908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amples of the </a:t>
            </a: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spontaneous splitting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unstabl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2D </a:t>
            </a:r>
            <a:r>
              <a:rPr b="1" i="1" lang="en-US" sz="2500" spc="-1" strike="noStrike">
                <a:solidFill>
                  <a:srgbClr val="7030a0"/>
                </a:solidFill>
                <a:latin typeface="Arial"/>
              </a:rPr>
              <a:t>vortex solitons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vorticitie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= 1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Content Placeholder 3" descr=""/>
          <p:cNvPicPr/>
          <p:nvPr/>
        </p:nvPicPr>
        <p:blipFill>
          <a:blip r:embed="rId2"/>
          <a:stretch/>
        </p:blipFill>
        <p:spPr>
          <a:xfrm>
            <a:off x="468360" y="1214280"/>
            <a:ext cx="74865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85672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norm of the </a:t>
            </a:r>
            <a:r>
              <a:rPr b="1" i="1" lang="en-US" sz="2500" spc="-1" strike="noStrike">
                <a:solidFill>
                  <a:srgbClr val="7030a0"/>
                </a:solidFill>
                <a:latin typeface="Arial"/>
              </a:rPr>
              <a:t>Townes’ solito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threshold value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ich separates </a:t>
            </a: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collapsing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decaying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 localized solutions of the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2D NLS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quation. 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stabilizing mechanism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added to the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2D NLS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quation, may act by letting the norm of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2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solitons take values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(but </a:t>
            </a: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avoiding the decay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, so that they </a:t>
            </a: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canno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undergo the </a:t>
            </a: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collaps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as their norm falls below the threshold value necessary to initiate the collapse.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abilization of </a:t>
            </a: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vortex solitons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still more challenging problem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500"/>
            </a:b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wever, in the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L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equation, the situation is more difficult, as the collapse is </a:t>
            </a: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supercritical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with </a:t>
            </a: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zero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7030a0"/>
                </a:solidFill>
                <a:latin typeface="Arial"/>
              </a:rPr>
              <a:t>threshol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 This fact suggests that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solitons may be made </a:t>
            </a: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metastabl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in the best case, as </a:t>
            </a: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the collapse remains possibl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80040"/>
            <a:ext cx="8229600" cy="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abi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ost import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 for 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multidimensional solito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lias 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spatiotemporal solit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n terms of optics)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view summarizing theoretical and experimental findings in this ar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8000" y="2276640"/>
            <a:ext cx="8928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Nature Reviews Physic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185-197 (201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0" y="2924280"/>
            <a:ext cx="879948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8567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other review article, specifically focused on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olitons with </a:t>
            </a:r>
            <a:r>
              <a:rPr b="1" i="1" lang="en-US" sz="3000" spc="-1" strike="noStrike">
                <a:solidFill>
                  <a:srgbClr val="7030a0"/>
                </a:solidFill>
                <a:latin typeface="Arial"/>
              </a:rPr>
              <a:t>embedded vorticit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which is one of central topics of the present talk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Content Placeholder 3" descr=""/>
          <p:cNvPicPr/>
          <p:nvPr/>
        </p:nvPicPr>
        <p:blipFill>
          <a:blip r:embed="rId1"/>
          <a:stretch/>
        </p:blipFill>
        <p:spPr>
          <a:xfrm>
            <a:off x="4559400" y="4194000"/>
            <a:ext cx="25200" cy="14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4559400" y="3422520"/>
            <a:ext cx="25200" cy="12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3"/>
          <a:stretch/>
        </p:blipFill>
        <p:spPr>
          <a:xfrm>
            <a:off x="285840" y="2205000"/>
            <a:ext cx="8778960" cy="38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cent review article summarizes theoretical and experimental findings for multidimensional solitons in </a:t>
            </a:r>
            <a:r>
              <a:rPr b="1" i="1" lang="en-US" sz="2800" spc="-1" strike="noStrike">
                <a:solidFill>
                  <a:srgbClr val="7030a0"/>
                </a:solidFill>
                <a:latin typeface="Arial"/>
              </a:rPr>
              <a:t>dissipative med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Content Placeholder 4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8763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the results, theoretical and experimental ones, are presented in a systematic form in a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ew book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ublished by the American Institute of Physics, Melville, NY, 2022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Content Placeholder 5" descr=""/>
          <p:cNvPicPr/>
          <p:nvPr/>
        </p:nvPicPr>
        <p:blipFill>
          <a:blip r:embed="rId1"/>
          <a:stretch/>
        </p:blipFill>
        <p:spPr>
          <a:xfrm>
            <a:off x="1573200" y="1125360"/>
            <a:ext cx="6094440" cy="556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rodu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ion of </a:t>
            </a:r>
            <a:r>
              <a:rPr b="1" i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ocalized structur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form of </a:t>
            </a:r>
            <a:r>
              <a:rPr b="1" i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olit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many physical settings is accounted for by the interplay of nonlinear </a:t>
            </a:r>
            <a:r>
              <a:rPr b="1" i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elf-attra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lias </a:t>
            </a:r>
            <a:r>
              <a:rPr b="1" i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elf-focus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of physical fields (e.g., electromagnetic waves in photonics, or macroscopic wave functions, alias </a:t>
            </a:r>
            <a:r>
              <a:rPr b="1" i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matter wav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 </a:t>
            </a:r>
            <a:r>
              <a:rPr b="1" i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Bose-Einstein condensa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BE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nd basic linear effects, such as </a:t>
            </a:r>
            <a:r>
              <a:rPr b="1" i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isper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i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iffractio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5589720"/>
            <a:ext cx="822960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85080" cy="61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main issue f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s, the rest of the talk is structured according to basic mechanisms which provide fo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bil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multidimensional solitons: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3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latively old findings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rtex solito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odels with the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ubic-quin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nonlinearity (in a brief form).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4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elatively new model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te solitons in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wo-component spin-orbit (SO)-coupled BE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5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oretical and experimental results: the prediction and creation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tter-wave solitons (“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quantum drople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) stabilized b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uantum fluctu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6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clus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585000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646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D and 3D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ystems with  the cubic-quintic nonlinearity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tabilization of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fundamental and vortical solitons can be provided by a combination of </a:t>
            </a: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compet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self-focusing cubi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self-defocusing quinti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nlinear term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5805000"/>
            <a:ext cx="82296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ptics,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D NL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tion can be written as the equation governing the </a:t>
            </a:r>
            <a:r>
              <a:rPr b="1" i="1" lang="en-US" sz="2800" spc="-1" strike="noStrike">
                <a:solidFill>
                  <a:srgbClr val="0070c0"/>
                </a:solidFill>
                <a:latin typeface="Arial"/>
              </a:rPr>
              <a:t>spatiotemporal evolu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electromagnetic fie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Content Placeholder 3"/>
          <p:cNvGraphicFramePr/>
          <p:nvPr/>
        </p:nvGraphicFramePr>
        <p:xfrm>
          <a:off x="539640" y="1494000"/>
          <a:ext cx="7417080" cy="50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94000"/>
                    <a:ext cx="7417080" cy="50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856720" cy="201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ability of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undamental solit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n the framework of this equation is obvious. A nontrivial problem is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ability of vortex solit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ainst splitting by azimuthal perturbations.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vortex solit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first reported i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358920" y="2492280"/>
            <a:ext cx="878508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ample of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ynamical stabilit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elastic collision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ortex solit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Content Placeholder 4" descr=""/>
          <p:cNvPicPr/>
          <p:nvPr/>
        </p:nvPicPr>
        <p:blipFill>
          <a:blip r:embed="rId1"/>
          <a:stretch/>
        </p:blipFill>
        <p:spPr>
          <a:xfrm>
            <a:off x="1835280" y="1224000"/>
            <a:ext cx="554508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7640" y="115920"/>
            <a:ext cx="893772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perimental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stability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+1)D </a:t>
            </a:r>
            <a:r>
              <a:rPr b="1" i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fundament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solitons in an optical </a:t>
            </a:r>
            <a:r>
              <a:rPr b="1" i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ubic-quin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dium was demonstrated relatively recent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250920" y="2781360"/>
            <a:ext cx="87948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y stable </a:t>
            </a:r>
            <a:r>
              <a:rPr b="1" i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vortex solit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not yet been created in the experiment. However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uasi-s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es have been reporte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Content Placeholder 7" descr=""/>
          <p:cNvPicPr/>
          <p:nvPr/>
        </p:nvPicPr>
        <p:blipFill>
          <a:blip r:embed="rId1"/>
          <a:stretch/>
        </p:blipFill>
        <p:spPr>
          <a:xfrm>
            <a:off x="227160" y="1844640"/>
            <a:ext cx="86374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140760"/>
            <a:ext cx="885672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vortex soliton starts expansion due to nonlinear losses (multiphoton absorption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Content Placeholder 4" descr=""/>
          <p:cNvPicPr/>
          <p:nvPr/>
        </p:nvPicPr>
        <p:blipFill>
          <a:blip r:embed="rId1"/>
          <a:stretch/>
        </p:blipFill>
        <p:spPr>
          <a:xfrm>
            <a:off x="4546440" y="716040"/>
            <a:ext cx="3410280" cy="61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9280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allenging problem is to construc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ortex solitons in the cubic-quintic medium, and analyze their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ta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Theoretically, this was done long ago 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395280" y="3284640"/>
            <a:ext cx="85946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 of numerically simulated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recov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strongly perturb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liton with intrinsic vorticity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doughn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54080" y="2492280"/>
            <a:ext cx="893736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324000" y="333360"/>
            <a:ext cx="856908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ably, the most important model which creates solitons is the </a:t>
            </a:r>
            <a:r>
              <a:rPr b="1" i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onlinear Schrödinge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LS) </a:t>
            </a:r>
            <a:r>
              <a:rPr b="1" i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quation</a:t>
            </a:r>
            <a:r>
              <a:rPr b="1" i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generates a family of bright-soliton solutions with two free parameters - amplitude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velocit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3"/>
          <p:cNvGraphicFramePr/>
          <p:nvPr/>
        </p:nvGraphicFramePr>
        <p:xfrm>
          <a:off x="2452680" y="1197000"/>
          <a:ext cx="4311720" cy="112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2680" y="1197000"/>
                    <a:ext cx="431172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1"/>
          <p:cNvGraphicFramePr/>
          <p:nvPr/>
        </p:nvGraphicFramePr>
        <p:xfrm>
          <a:off x="1635120" y="3890880"/>
          <a:ext cx="6213600" cy="112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5120" y="3890880"/>
                    <a:ext cx="621360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8567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 of the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insta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ughnut solit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vorticit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i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plit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three frag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-181080" y="2565360"/>
            <a:ext cx="933156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ovel results: Stable two- and three-dimensional composite solitons in spin-orbit (SO)-coupled self-attractive BEC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533340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856720" cy="619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a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troduction and objectives</a:t>
            </a:r>
            <a:br>
              <a:rPr sz="36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em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ias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sim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of complex physical effects, known in condensed-matter physics, by much simpler settings available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matter wav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toni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optical wav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has drawn a great deal of interest:</a:t>
            </a:r>
            <a:br>
              <a:rPr sz="3200"/>
            </a:br>
            <a:br>
              <a:rPr sz="3200"/>
            </a:b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P. Hauke, F. M. Cucchietti, L. Tagliacozzo, I. Deutsch, and M. Lewenste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Rep. Prog. Phys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082401 (2012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3357360"/>
            <a:ext cx="814716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36480" y="404640"/>
            <a:ext cx="850752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mportant topic which is enabled by this approach: the emulation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in-orb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a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semiconductors, such as those accounted for by the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Rashb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Dresselha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miltonians. It is performed by </a:t>
            </a:r>
            <a:r>
              <a:rPr b="1" i="1" lang="en-US" sz="2800" spc="-1" strike="noStrike">
                <a:solidFill>
                  <a:srgbClr val="2d2d8a"/>
                </a:solidFill>
                <a:latin typeface="Arial"/>
              </a:rPr>
              <a:t>mapp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spinor wave function of electrons (</a:t>
            </a:r>
            <a:r>
              <a:rPr b="1" i="1" lang="en-US" sz="2800" spc="-1" strike="noStrike">
                <a:solidFill>
                  <a:srgbClr val="0070c0"/>
                </a:solidFill>
                <a:latin typeface="Arial"/>
              </a:rPr>
              <a:t>ferm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nto the pseudo-spinor (two-component) </a:t>
            </a:r>
            <a:r>
              <a:rPr b="1" i="1" lang="en-US" sz="2800" spc="-1" strike="noStrike">
                <a:solidFill>
                  <a:srgbClr val="0070c0"/>
                </a:solidFill>
                <a:latin typeface="Arial"/>
              </a:rPr>
              <a:t>boson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ave function of a binar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Y. J. Lin, K. Jimenez-Garcia, and I. B. Spielm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atu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7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83 (201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Y. Zhang, L. Mao, and C. Zha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hys. Rev. Lett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035302 (2012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re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H. Zha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Rep. Prog. Phys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8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26001 (2015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b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e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920" y="692280"/>
            <a:ext cx="907416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ystem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oss-Pitaevskii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equations for the two-component wave func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l-GR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l-GR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binar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upled by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rms with strength </a:t>
            </a:r>
            <a:r>
              <a:rPr b="1" i="1" lang="el-GR" sz="24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oefficient of the cubic self-attrac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≡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Object 6"/>
          <p:cNvGraphicFramePr/>
          <p:nvPr/>
        </p:nvGraphicFramePr>
        <p:xfrm>
          <a:off x="863640" y="3284640"/>
          <a:ext cx="7569000" cy="26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3284640"/>
                    <a:ext cx="7569000" cy="26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 txBox="1"/>
          <p:nvPr/>
        </p:nvSpPr>
        <p:spPr>
          <a:xfrm>
            <a:off x="4648320" y="6165360"/>
            <a:ext cx="403848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240" y="50760"/>
            <a:ext cx="9083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4c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References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asic results are presented here for 2D solitons as per the following pap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30240" y="757080"/>
            <a:ext cx="9113760" cy="2737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324000" y="3494160"/>
            <a:ext cx="83358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d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emi-vortex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60020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up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quations admit a family of solutions for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semi-vorti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ith vorticiti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one component,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other. The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exact ansat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these solutions, compatible with the underlying equations (</a:t>
            </a:r>
            <a:r>
              <a:rPr b="1" i="1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chemical potentia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6"/>
          <p:cNvGraphicFramePr/>
          <p:nvPr/>
        </p:nvGraphicFramePr>
        <p:xfrm>
          <a:off x="1365120" y="3213000"/>
          <a:ext cx="7247160" cy="27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5120" y="3213000"/>
                    <a:ext cx="7247160" cy="27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7120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umerically generated cross-section (along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of the two components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|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i="1" lang="el-GR" sz="2800" spc="-1" strike="noStrike" baseline="-25000">
                <a:solidFill>
                  <a:srgbClr val="000000"/>
                </a:solidFill>
                <a:latin typeface="Arial"/>
              </a:rPr>
              <a:t>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, for a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table semi-vortex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Content Placeholder 2" descr=""/>
          <p:cNvPicPr/>
          <p:nvPr/>
        </p:nvPicPr>
        <p:blipFill>
          <a:blip r:embed="rId1"/>
          <a:stretch/>
        </p:blipFill>
        <p:spPr>
          <a:xfrm>
            <a:off x="2484360" y="2637000"/>
            <a:ext cx="395928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umerically found dependence between the total norm of the semi-vortices and their chemical potential demonstrates tha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norm of the semi-vortex indeed fall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below the threshold 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cessary for the onset of the collapse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&lt;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th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≡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→ -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≈ 5.8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re i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no finite minimum 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norm necessary for the existence of the semi-vortex;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3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dependence satisfies the </a:t>
            </a:r>
            <a:r>
              <a:rPr b="1" i="1" lang="en-US" sz="2000" spc="-1" strike="noStrike">
                <a:solidFill>
                  <a:srgbClr val="7030a0"/>
                </a:solidFill>
                <a:latin typeface="Arial"/>
              </a:rPr>
              <a:t>Vakhitov-Kolokolov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erion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l-GR" sz="20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ich is a necessary condition for the stabi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280" y="6381360"/>
            <a:ext cx="793116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"/>
          <p:cNvPicPr/>
          <p:nvPr/>
        </p:nvPicPr>
        <p:blipFill>
          <a:blip r:embed="rId1"/>
          <a:stretch/>
        </p:blipFill>
        <p:spPr>
          <a:xfrm>
            <a:off x="3132000" y="2781360"/>
            <a:ext cx="381636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e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ixed m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4920" y="692280"/>
            <a:ext cx="907416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tended system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oss-Pitaevskii equations for the two-component wave func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l-GR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l-GR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ncludes bo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upling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lin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-inter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relative strength  </a:t>
            </a:r>
            <a:r>
              <a:rPr b="1" i="1" lang="el-GR" sz="24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6"/>
          <p:cNvGraphicFramePr/>
          <p:nvPr/>
        </p:nvGraphicFramePr>
        <p:xfrm>
          <a:off x="260280" y="3219480"/>
          <a:ext cx="84344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3219480"/>
                    <a:ext cx="84344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 txBox="1"/>
          <p:nvPr/>
        </p:nvSpPr>
        <p:spPr>
          <a:xfrm>
            <a:off x="4648320" y="6165360"/>
            <a:ext cx="403848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43200"/>
            <a:ext cx="8785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8000" y="333000"/>
            <a:ext cx="8928000" cy="61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exact integrability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this equation, and of its counterpart with the </a:t>
            </a:r>
            <a:r>
              <a:rPr b="1" i="1" lang="en-US" sz="2600" spc="-1" strike="noStrike">
                <a:solidFill>
                  <a:srgbClr val="7030a0"/>
                </a:solidFill>
                <a:latin typeface="Arial"/>
              </a:rPr>
              <a:t>self-repulsiv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600" spc="-1" strike="noStrike">
                <a:solidFill>
                  <a:srgbClr val="7030a0"/>
                </a:solidFill>
                <a:latin typeface="Arial"/>
              </a:rPr>
              <a:t>defoc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nonlinear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means of the 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inverse-scattering transfor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had been discovered in the classical work by 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V.E. Zakharov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A.B. Shaba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originally published in Russian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 E. Zakharov and A. B. Shabat, </a:t>
            </a:r>
            <a:r>
              <a:rPr b="0" i="1" lang="en-US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xact Theory of Two-dimensional Self-focusing and One-dimensional Self-modulation</a:t>
            </a:r>
            <a:r>
              <a:rPr b="0" i="1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of Waves in Nonlinear Medi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. Exp. Theor. Phys.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-69 (1972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2484360" y="1413000"/>
          <a:ext cx="3878280" cy="100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413000"/>
                    <a:ext cx="38782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1692360" y="13644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2"/>
          <p:cNvGraphicFramePr/>
          <p:nvPr/>
        </p:nvGraphicFramePr>
        <p:xfrm>
          <a:off x="611280" y="49320"/>
          <a:ext cx="7615080" cy="41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49320"/>
                    <a:ext cx="7615080" cy="41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9" name="Picture 3" descr=""/>
          <p:cNvPicPr/>
          <p:nvPr/>
        </p:nvPicPr>
        <p:blipFill>
          <a:blip r:embed="rId3"/>
          <a:stretch/>
        </p:blipFill>
        <p:spPr>
          <a:xfrm>
            <a:off x="4572000" y="4219560"/>
            <a:ext cx="3017880" cy="25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250920" y="274680"/>
            <a:ext cx="8785080" cy="29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ult is that the 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mixed mod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ns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1" i="1" lang="el-GR" sz="24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1" i="1" lang="el-GR" sz="24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xactly when the semi-vortex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ns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spectivel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bility swit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the 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semi-vorte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mixed m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the increase of </a:t>
            </a:r>
            <a:r>
              <a:rPr b="1" i="1" lang="el-GR" sz="24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explained by the fact that the 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semi-vort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nd 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mixed mo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round st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ch realize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inim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system’s energy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recisely at     </a:t>
            </a:r>
            <a:r>
              <a:rPr b="1" i="1" lang="el-GR" sz="24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l-GR" sz="24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spectively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"/>
          <p:cNvSpPr/>
          <p:nvPr/>
        </p:nvSpPr>
        <p:spPr>
          <a:xfrm flipV="1">
            <a:off x="900000" y="6381720"/>
            <a:ext cx="40388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1332000" y="3862440"/>
            <a:ext cx="6480000" cy="26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250920" y="274680"/>
            <a:ext cx="843588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pendence of the energy of the 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semi-vort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) and 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mixed mod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) on </a:t>
            </a:r>
            <a:r>
              <a:rPr b="1" i="1" lang="el-GR" sz="24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or a fixed value of the total norm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3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2195640" y="2205000"/>
            <a:ext cx="5329080" cy="44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85672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f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 stabilization of 3D solitons by the SO coupl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1844640"/>
            <a:ext cx="84358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0" y="2060640"/>
            <a:ext cx="9036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8000" y="333000"/>
            <a:ext cx="89280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del with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upling (in particular, of the </a:t>
            </a:r>
            <a:r>
              <a:rPr b="1" i="1" lang="en-US" sz="3200" spc="-1" strike="noStrike">
                <a:solidFill>
                  <a:srgbClr val="7030a0"/>
                </a:solidFill>
                <a:latin typeface="Arial"/>
              </a:rPr>
              <a:t>Weyl ty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n-US" sz="32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based on the following system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tions for t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component</a:t>
            </a:r>
            <a:r>
              <a:rPr b="1" i="1" lang="en-US" sz="32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ve f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ith the vector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uli matri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 σ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 σ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an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 ≡ 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,    </a:t>
            </a:r>
            <a:r>
              <a:rPr b="1" i="1" lang="el-GR" sz="32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&gt; 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e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attra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nlinearity, which gives rise to the </a:t>
            </a:r>
            <a:r>
              <a:rPr b="1" i="1" lang="en-US" sz="3200" spc="-1" strike="noStrike">
                <a:solidFill>
                  <a:srgbClr val="2d2d8a"/>
                </a:solidFill>
                <a:latin typeface="Arial"/>
              </a:rPr>
              <a:t>supercritical collap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239760" y="4076640"/>
            <a:ext cx="86644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158400"/>
            <a:ext cx="896472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(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me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2d2d8a"/>
                </a:solidFill>
                <a:latin typeface="Arial"/>
              </a:rPr>
              <a:t>solit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ith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8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or </a:t>
            </a:r>
            <a:r>
              <a:rPr b="1" i="1" lang="el-GR" sz="32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0.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 semi-vortex;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for     </a:t>
            </a:r>
            <a:r>
              <a:rPr b="1" i="1" lang="el-GR" sz="32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1.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a </a:t>
            </a: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mixed mo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2556000" y="1700280"/>
            <a:ext cx="604836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9036000" cy="44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The newest addition: stabilization of 3D and 2D “superfluid droplets” by quantum fluctuations</a:t>
            </a:r>
            <a:br>
              <a:rPr sz="20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ing i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5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oretical predictions and </a:t>
            </a:r>
            <a:r>
              <a:rPr b="1" i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rect experimental observation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losely related to the topic of multidimensional solitons, has emerged: the creation o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liton-like states i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a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med “</a:t>
            </a:r>
            <a:r>
              <a:rPr b="1" i="1" lang="en-US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quantum drople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 They are made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the </a:t>
            </a:r>
            <a:r>
              <a:rPr b="1" lang="en-US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ee-Huang-Yang (LHY) correction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ynamics, which represents effects of </a:t>
            </a: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quantum fluctuations (Bogoliubov’s modes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ound th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-field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200"/>
            </a:br>
            <a:r>
              <a:rPr b="1" lang="en-US" sz="2200" spc="-1" strike="noStrike">
                <a:solidFill>
                  <a:srgbClr val="7030a0"/>
                </a:solidFill>
                <a:latin typeface="LMRoman9-Regular-Identity-H"/>
              </a:rPr>
              <a:t>T. D. Lee, K. Huang, and C. N. Yang</a:t>
            </a:r>
            <a:r>
              <a:rPr b="0" lang="en-US" sz="2200" spc="-1" strike="noStrike">
                <a:solidFill>
                  <a:srgbClr val="000000"/>
                </a:solidFill>
                <a:latin typeface="LMRoman9-Regular-Identity-H"/>
              </a:rPr>
              <a:t>, </a:t>
            </a:r>
            <a:r>
              <a:rPr b="0" lang="en-US" sz="2200" spc="-1" strike="noStrike">
                <a:solidFill>
                  <a:srgbClr val="00b0f0"/>
                </a:solidFill>
                <a:latin typeface="LMRoman9-Regular-Identity-H"/>
              </a:rPr>
              <a:t>Eigenvalues and eigenfunctions of a Bose system of hard spheres and its low-temperature properties</a:t>
            </a:r>
            <a:r>
              <a:rPr b="0" lang="en-US" sz="2200" spc="-1" strike="noStrike">
                <a:solidFill>
                  <a:srgbClr val="000000"/>
                </a:solidFill>
                <a:latin typeface="LMRoman9-Regular-Identity-H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LMRoman9-Italic-Identity-H"/>
              </a:rPr>
              <a:t>Phys. Rev</a:t>
            </a:r>
            <a:r>
              <a:rPr b="0" i="1" lang="en-US" sz="2200" spc="-1" strike="noStrike">
                <a:solidFill>
                  <a:srgbClr val="000000"/>
                </a:solidFill>
                <a:latin typeface="LMRoman9-Italic-Identity-H"/>
              </a:rPr>
              <a:t>. </a:t>
            </a:r>
            <a:r>
              <a:rPr b="1" lang="en-US" sz="2200" spc="-1" strike="noStrike">
                <a:solidFill>
                  <a:srgbClr val="000000"/>
                </a:solidFill>
                <a:latin typeface="LMRoman9-Regular-Identity-H"/>
              </a:rPr>
              <a:t>106</a:t>
            </a:r>
            <a:r>
              <a:rPr b="0" lang="en-US" sz="2200" spc="-1" strike="noStrike">
                <a:solidFill>
                  <a:srgbClr val="000000"/>
                </a:solidFill>
                <a:latin typeface="LMRoman9-Regular-Identity-H"/>
              </a:rPr>
              <a:t>, 1135 </a:t>
            </a:r>
            <a:r>
              <a:rPr b="1" lang="en-US" sz="2200" spc="-1" strike="noStrike">
                <a:solidFill>
                  <a:srgbClr val="ff0000"/>
                </a:solidFill>
                <a:latin typeface="LMRoman9-Regular-Identity-H"/>
              </a:rPr>
              <a:t>(1957)</a:t>
            </a:r>
            <a:r>
              <a:rPr b="0" lang="en-US" sz="2200" spc="-1" strike="noStrike">
                <a:solidFill>
                  <a:srgbClr val="000000"/>
                </a:solidFill>
                <a:latin typeface="LMRoman9-Regular-Identity-H"/>
              </a:rPr>
              <a:t>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LMRoman9-Regular-Identity-H"/>
              </a:rPr>
              <a:t>Chen-Ning Yang </a:t>
            </a:r>
            <a:r>
              <a:rPr b="0" lang="en-US" sz="2200" spc="-1" strike="noStrike">
                <a:solidFill>
                  <a:srgbClr val="000000"/>
                </a:solidFill>
                <a:latin typeface="LMRoman9-Regular-Identity-H"/>
              </a:rPr>
              <a:t>in 1957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LMRoman9-Regular-Identity-H"/>
              </a:rPr>
              <a:t>Tsung-Dao Lee </a:t>
            </a:r>
            <a:r>
              <a:rPr b="0" lang="en-US" sz="2200" spc="-1" strike="noStrike">
                <a:solidFill>
                  <a:srgbClr val="000000"/>
                </a:solidFill>
                <a:latin typeface="LMRoman9-Regular-Identity-H"/>
              </a:rPr>
              <a:t>in 1956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MRoman9-Regular-Identity-H"/>
              </a:rPr>
              <a:t>(currently </a:t>
            </a:r>
            <a:r>
              <a:rPr b="1" lang="en-US" sz="2200" spc="-1" strike="noStrike">
                <a:solidFill>
                  <a:srgbClr val="ff0000"/>
                </a:solidFill>
                <a:latin typeface="LMRoman9-Regular-Identity-H"/>
              </a:rPr>
              <a:t>100</a:t>
            </a:r>
            <a:r>
              <a:rPr b="0" lang="en-US" sz="2200" spc="-1" strike="noStrike">
                <a:solidFill>
                  <a:srgbClr val="000000"/>
                </a:solidFill>
                <a:latin typeface="LMRoman9-Regular-Identity-H"/>
              </a:rPr>
              <a:t> years old)                     (currently </a:t>
            </a:r>
            <a:r>
              <a:rPr b="1" lang="en-US" sz="2200" spc="-1" strike="noStrike">
                <a:solidFill>
                  <a:srgbClr val="ff0000"/>
                </a:solidFill>
                <a:latin typeface="LMRoman9-Regular-Identity-H"/>
              </a:rPr>
              <a:t>96</a:t>
            </a:r>
            <a:r>
              <a:rPr b="0" lang="en-US" sz="2200" spc="-1" strike="noStrike">
                <a:solidFill>
                  <a:srgbClr val="000000"/>
                </a:solidFill>
                <a:latin typeface="LMRoman9-Regular-Identity-H"/>
              </a:rPr>
              <a:t> years ol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-1684800" y="7202160"/>
            <a:ext cx="4178520" cy="7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7" descr=""/>
          <p:cNvPicPr/>
          <p:nvPr/>
        </p:nvPicPr>
        <p:blipFill>
          <a:blip r:embed="rId1"/>
          <a:stretch/>
        </p:blipFill>
        <p:spPr>
          <a:xfrm>
            <a:off x="404640" y="4808520"/>
            <a:ext cx="1368720" cy="1933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"/>
          <p:cNvPicPr/>
          <p:nvPr/>
        </p:nvPicPr>
        <p:blipFill>
          <a:blip r:embed="rId2"/>
          <a:stretch/>
        </p:blipFill>
        <p:spPr>
          <a:xfrm>
            <a:off x="6443640" y="4789440"/>
            <a:ext cx="1368360" cy="19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8000" y="117360"/>
            <a:ext cx="90360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ide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ntum drople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ometries, was proposed by 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mitry Petrov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aris-Saclay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25560" y="2637000"/>
            <a:ext cx="8939160" cy="1873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250920" y="4724280"/>
            <a:ext cx="87883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arting point is a system of coupl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quations for two components of the mean-field wave function of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ary BE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ith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elf-repul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each component and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ttra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tween the components, which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lightly exceed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f-repuls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ing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qual wave fun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both components,                          the system of tw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quations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y be reduced to th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57200" y="5877000"/>
            <a:ext cx="8229600" cy="249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Object 1"/>
          <p:cNvGraphicFramePr/>
          <p:nvPr/>
        </p:nvGraphicFramePr>
        <p:xfrm>
          <a:off x="7164360" y="1760400"/>
          <a:ext cx="1676520" cy="43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4360" y="1760400"/>
                    <a:ext cx="1676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3"/>
          <p:cNvGraphicFramePr/>
          <p:nvPr/>
        </p:nvGraphicFramePr>
        <p:xfrm>
          <a:off x="1006560" y="2852640"/>
          <a:ext cx="7680240" cy="2075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6560" y="2852640"/>
                    <a:ext cx="7680240" cy="20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5b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Fundamental (zero-vorticity) droplets: solutions and experimental realiz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08000" y="907560"/>
            <a:ext cx="8856720" cy="56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ionary solutions fo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tum droplet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chemical potential     </a:t>
            </a:r>
            <a:r>
              <a:rPr b="1" i="1" lang="el-GR" sz="2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&lt; 0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looked for as </a:t>
            </a: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exp(-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l-GR" sz="2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 Φ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, with real functions </a:t>
            </a: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satisfying equ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e to the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competi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etween the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attractiv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repulsiv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linearities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the solutions cannot exceed the following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maximum valu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3"/>
          <p:cNvGraphicFramePr/>
          <p:nvPr/>
        </p:nvGraphicFramePr>
        <p:xfrm>
          <a:off x="2100240" y="4133880"/>
          <a:ext cx="305136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0240" y="4133880"/>
                    <a:ext cx="3051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3"/>
          <p:cNvGraphicFramePr/>
          <p:nvPr/>
        </p:nvGraphicFramePr>
        <p:xfrm>
          <a:off x="2916360" y="1844640"/>
          <a:ext cx="4475160" cy="92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6360" y="1844640"/>
                    <a:ext cx="447516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50920" y="274680"/>
            <a:ext cx="8713800" cy="33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tons of the NLS type in </a:t>
            </a:r>
            <a:r>
              <a:rPr b="1" i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onlinear optical fib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ere predicted by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Hasegaw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apper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1973 (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. Phys. Lett.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42-14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and experimentally created by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ollenauer, Stol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Gord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1980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. Rev. Lett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095-1098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lso observed two-soliton bound states (</a:t>
            </a:r>
            <a:r>
              <a:rPr b="0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reath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468360" y="4005360"/>
            <a:ext cx="8497800" cy="26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96472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this reason, the quantum matter described by this equation may be considered as an effectively 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incompressible flui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hence the name of “</a:t>
            </a:r>
            <a:r>
              <a:rPr b="1" i="1" lang="en-US" sz="2600" spc="-1" strike="noStrike">
                <a:solidFill>
                  <a:srgbClr val="7030a0"/>
                </a:solidFill>
                <a:latin typeface="Arial"/>
              </a:rPr>
              <a:t>quantum drople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”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1773000"/>
            <a:ext cx="90360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 sections of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um-drople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s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ight, 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bell-shap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left, 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flat-t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droplets”) total nor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179280" y="3298680"/>
            <a:ext cx="851544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4560" y="188640"/>
            <a:ext cx="900108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peri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 cre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si-2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obl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roplets, with </a:t>
            </a:r>
            <a:r>
              <a:rPr b="1" i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spect rati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10: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lifetim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10 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uilt of ~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atoms (in two different hyperfine states) per drop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as reported by the group of 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Leticia Tarruel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ICFO (Barcelona)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 359, 301 (201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1763640" y="3933720"/>
            <a:ext cx="5759640" cy="28418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"/>
          <p:cNvPicPr/>
          <p:nvPr/>
        </p:nvPicPr>
        <p:blipFill>
          <a:blip r:embed="rId2"/>
          <a:stretch/>
        </p:blipFill>
        <p:spPr>
          <a:xfrm>
            <a:off x="755640" y="2276640"/>
            <a:ext cx="734364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reation of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early isotropic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D quantum drople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wi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ligible confinement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ny direction) in the same atomic species,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9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reported by the group of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Massimo Ingusci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lorenc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457200" y="1916280"/>
            <a:ext cx="8229600" cy="28191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"/>
          <p:cNvPicPr/>
          <p:nvPr/>
        </p:nvPicPr>
        <p:blipFill>
          <a:blip r:embed="rId2"/>
          <a:stretch/>
        </p:blipFill>
        <p:spPr>
          <a:xfrm>
            <a:off x="1209600" y="4894200"/>
            <a:ext cx="67248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c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tension of the theory: quantum droplets with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embedded vorticity</a:t>
            </a:r>
            <a:br>
              <a:rPr sz="2800"/>
            </a:br>
            <a:r>
              <a:rPr b="1" i="1" lang="en-US" sz="2800" spc="-1" strike="noStrike">
                <a:solidFill>
                  <a:srgbClr val="7030a0"/>
                </a:solidFill>
                <a:latin typeface="Arial"/>
              </a:rPr>
              <a:t>Vortex-dropl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s,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rti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,2,3,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ere constructed in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del, looking for solutions (in the polar coordinates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exp(-i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&lt; 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1"/>
          <a:stretch/>
        </p:blipFill>
        <p:spPr>
          <a:xfrm>
            <a:off x="250920" y="3233880"/>
            <a:ext cx="871380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 rot="10800000">
            <a:off x="216000" y="114840"/>
            <a:ext cx="8928000" cy="73080"/>
          </a:xfrm>
          <a:prstGeom prst="rect">
            <a:avLst/>
          </a:prstGeom>
          <a:noFill/>
          <a:ln w="0">
            <a:noFill/>
          </a:ln>
        </p:spPr>
        <p:txBody>
          <a:bodyPr tIns="27360" bIns="2736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192240" y="639720"/>
            <a:ext cx="8572320" cy="2413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"/>
          <p:cNvPicPr/>
          <p:nvPr/>
        </p:nvPicPr>
        <p:blipFill>
          <a:blip r:embed="rId2"/>
          <a:stretch/>
        </p:blipFill>
        <p:spPr>
          <a:xfrm>
            <a:off x="324000" y="3773520"/>
            <a:ext cx="4608360" cy="28828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"/>
          <p:cNvPicPr/>
          <p:nvPr/>
        </p:nvPicPr>
        <p:blipFill>
          <a:blip r:embed="rId3"/>
          <a:stretch/>
        </p:blipFill>
        <p:spPr>
          <a:xfrm>
            <a:off x="5148360" y="3708360"/>
            <a:ext cx="345600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90360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re advanced theoretical result: prediction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ability reg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roplets, with embedded vorticitie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-66600" y="2565360"/>
            <a:ext cx="92106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8000" y="169920"/>
            <a:ext cx="892800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s of 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splitt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an 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unstab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2060"/>
                </a:solidFill>
                <a:latin typeface="Arial"/>
              </a:rPr>
              <a:t>vortex drople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p row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, and of the evolution of a 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stab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ne (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ttom row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. In both cases,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= 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Content Placeholder 3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7373880" cy="47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89280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latively recent review on the topic of 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quantum dropl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eory and experiment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875196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08000" y="836640"/>
            <a:ext cx="8928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 theoretical and experimental studies have led to the prediction and, in some cases, experimental creation of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t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lf-trapped modes in the form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da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rtex solit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ometries. Especially interesting are the predicted possibilities for the creation of (meta)stable 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semi-vort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means of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spin-orbit) coupl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binar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cubic attractive interactions (something which was previously considered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bsolutely impossi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as well as 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etically predicted and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experimentally realiz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on of 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3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superfluid drople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tabilized by 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quantum fluctu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7640" y="274320"/>
            <a:ext cx="9001080" cy="545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, the theoretical studies of multidimensional solitons have advanced much farther than the experimental work. Creation of stabl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litons in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eal experimen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ains a challenging obje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5877000"/>
            <a:ext cx="8229600" cy="2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324000" y="274680"/>
            <a:ext cx="8712000" cy="62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ther famous realization of solitons was demonstrated 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oaded in nearly one-dimensional (“cigar-shaped”) trapping potentials. Such </a:t>
            </a:r>
            <a:r>
              <a:rPr b="1" i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bright matter-wave soliton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re first created in the condensate of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 atoms: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.E. Strecker, G.B. Partridge, A.G. Truscott, and R. G. Hu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tur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50 (2002);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. Khaykovich, F. Schreck, G. Ferrari, T. Bourdel, J. Cubizolles, L.D. Carr, Y. Castin, and C. Salom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cienc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290 (200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457200" y="6126120"/>
            <a:ext cx="82296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856720" cy="36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ank you for your interest!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感谢您的关注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es of this presentation, and/or of articles mentioned in it, can be requested from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malomed@tauex.tau.ac.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57200" y="5805000"/>
            <a:ext cx="822960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108000" y="189000"/>
            <a:ext cx="892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amous experimental picture of the atomic density distribu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 chain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matter-wave solit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unequal amplitudes in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 (from the work of R. Hu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 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03432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6600" y="-360"/>
            <a:ext cx="9042480" cy="638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31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1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3100" spc="-1" strike="noStrike">
                <a:solidFill>
                  <a:srgbClr val="ff0000"/>
                </a:solidFill>
                <a:latin typeface="Arial"/>
              </a:rPr>
              <a:t>The subject of the talk: multidimensional solitons</a:t>
            </a:r>
            <a:br>
              <a:rPr sz="31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re challenging objective is to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predi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reate experiment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e-dimens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solitons. On the contrary to thei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unterparts, which are, normally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ubiquitou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ubic self-focu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ways mak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liton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unst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actly the sam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interaction gives rise to fundamental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estabilizing effec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ritical collap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upercritical collap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.e.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astrophic self-comp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wave function, which lead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ion of a singular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fter a finite evolution tim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6126120"/>
            <a:ext cx="8229600" cy="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, let us look 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litons produced by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quation with the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self-focusing cubic nonlinea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u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(1/2)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u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|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ton solutions with intege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rtic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 potenti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l-GR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looked for, in the polar coordinates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l-GR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as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exp(-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l-GR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μ</a:t>
            </a:r>
            <a:r>
              <a:rPr b="1" i="1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t+iS</a:t>
            </a:r>
            <a:r>
              <a:rPr b="1" i="1" lang="el-GR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θ</a:t>
            </a:r>
            <a:r>
              <a:rPr b="1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)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Palatino Linotype"/>
                <a:ea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5589720"/>
            <a:ext cx="8229600" cy="53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Object 1"/>
          <p:cNvGraphicFramePr/>
          <p:nvPr/>
        </p:nvGraphicFramePr>
        <p:xfrm>
          <a:off x="457200" y="4076640"/>
          <a:ext cx="8207280" cy="164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4076640"/>
                    <a:ext cx="8207280" cy="16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15:50:48Z</dcterms:created>
  <dc:creator>Boris Malomed</dc:creator>
  <dc:description/>
  <dc:language>en-US</dc:language>
  <cp:lastModifiedBy>Boris Malomed</cp:lastModifiedBy>
  <cp:lastPrinted>2016-10-23T22:24:58Z</cp:lastPrinted>
  <dcterms:modified xsi:type="dcterms:W3CDTF">2023-07-20T14:35:59Z</dcterms:modified>
  <cp:revision>882</cp:revision>
  <dc:subject/>
  <dc:title>Solitons and solitary vortices in continuous and discrete two-dimensional models</dc:title>
</cp:coreProperties>
</file>